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77C0-4355-4D1C-9806-64D38D36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0CA9-8139-4BE1-88D6-E570D1BE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003F-A390-4F49-9B21-B3592E70E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94AB-40AB-4815-88C3-862A33A1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AB03-F0B3-41FD-BB2B-638B5167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9C9A-6A9D-4BDA-AF0E-4BF28921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BB68-B984-46B9-B215-5A61D205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F620-3D24-4139-8ECE-761F9B38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7D64-95C0-4D52-A10F-2AF84996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C76B-744A-4627-AD6B-AD840525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0097-C8D1-4F2C-924F-CB69E9C9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47D6-C1C8-4730-9F46-147DA926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218E-F82A-4AB2-A584-033405BF79B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6025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8352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السورة باسم إبراهيم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شتمالها على دعوات إبراهيم عليه ال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20680" y="2781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إبراهيم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5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189000" y="21337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إبراهي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ي مك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وظائف الرسل عليهم الصلاة وال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رابط مستقيم 19"/>
          <p:cNvSpPr/>
          <p:nvPr/>
        </p:nvSpPr>
        <p:spPr>
          <a:xfrm>
            <a:off x="8820000" y="1662120"/>
            <a:ext cx="0" cy="171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قضايا العقي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حقيقة وحدة الرسال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كثرة نعم الله تعالى على النا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5T16:06:45Z</dcterms:modified>
  <cp:revision>1811</cp:revision>
  <dc:subject/>
  <dc:title>عرض تقديمي في PowerPoint</dc:title>
</cp:coreProperties>
</file>